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9D7-8847-48D6-978A-FC8FB102D6A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08C6-6933-49F7-B6CD-1E615FD0DFE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EE74-50B0-47ED-A305-D55A06AE7B5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DE40-8713-4A85-A25B-B887C0C806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2F33-CACD-4AD7-A805-98B3766FFAC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B7E9-C591-4FB7-8362-FF5C1AD988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4555-EE5F-43F1-A2B0-68AF49EE6D1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8FEA-23A3-4AA5-B968-108021986D5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55FA-7001-4E77-AA15-82881022D5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A320-DF46-42BC-ABE9-BD9486352F3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6844-255E-4D60-867A-CCC8444B738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CE50-DCBD-4FE9-841C-1551F03F99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E25B-BC1A-43B8-9D8D-B21953C42A9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2B3F-C69A-43E7-970A-6F547513409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B86D-1B71-4E95-B6DB-C8014A11531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E059-41A4-4A07-B042-BD348B7295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26F4-4FB0-44AE-A0FF-ECF85A41E4B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0DD3-FB2D-4747-9A46-DC1EFE0FF97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4C48-AD88-4D19-BE00-E2BC0491716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C110-0E97-4576-9ADD-E4A436AD6A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1EA8-B75E-4D24-9F6F-B860068162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7E54-9F60-4987-8FA9-52BEF289FF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D45B-DD37-481A-BFDF-F041A099F3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CE1F-6FDA-4D5A-82A8-191F568246A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657B-24C7-4958-8BFC-246BA9EEFB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19F7-5159-4A25-B869-F65BA153A4C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A061-EF77-49E1-BEDC-7ED16966A0D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BC2C-5ABC-44A6-872E-F131B39FD7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63F3-B14E-4109-A4FE-F03AF2058C6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6EEC-6A68-4ACE-9339-259D81368C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6D61-A890-4EAD-8AE5-11945676D87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EB4D-041F-43A9-B0C9-C52EC8FD7E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AB38-5735-450E-A36B-B39BFDF9865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7433-C55A-41D8-A68C-7400CD34B3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76F4-267C-4CB6-8D5B-7F9EEBEFA5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2EA0-ACEF-4DC7-8346-C240C986D3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DBD-E807-44C5-95AE-5465F77D169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08EF-51BC-4C0E-B696-8CA0EE8D72A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FD49-E4EB-4F04-8674-7EA213EFE6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7913-EC84-4D1C-8EF6-5FE559D393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7750-47EE-46FA-8613-C8404078C3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9A1F-D0D8-4A95-AE52-F68C3B84C27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9B283-8F5B-4D09-A653-882DD9233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2D923-5709-498F-B37E-B7F97707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7001C-4C9C-4034-927D-59E6B218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F2799-B97B-4A5D-8B62-AD111C5C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097AF-977B-4F3D-BE4F-BBE49BFE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0515-3A42-44FD-86D9-8939479C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9210-7159-4E42-8C42-D754048BF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237D-A74E-49A9-B4F3-CD84AAD12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1468-DC32-4876-A9B4-0A24B7DE8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29DC-CEF5-4237-BC56-80E03EB5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E89E-34C2-4BF5-8892-B2D8CCCF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A29D-4C8C-495F-AE9B-DD2F90AA7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16D3-35C7-43DA-8CC0-F84BC81FEE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0158EEE-2D6A-48CD-9142-194C2B1914D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9"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统计数据的搜集</a:t>
            </a:r>
            <a:endParaRPr b="0" lang="en-US" sz="2400" spc="-1" strike="noStrike">
              <a:solidFill>
                <a:srgbClr val="000000"/>
              </a:solidFill>
              <a:latin typeface="Times New Roman"/>
            </a:endParaRPr>
          </a:p>
        </p:txBody>
      </p:sp>
      <p:sp>
        <p:nvSpPr>
          <p:cNvPr id="50"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2 </a:t>
            </a:r>
            <a:r>
              <a:rPr b="1" i="1" lang="en-US" sz="2400" spc="-1" strike="noStrike">
                <a:solidFill>
                  <a:srgbClr val="008000"/>
                </a:solidFill>
                <a:latin typeface="Times New Roman"/>
              </a:rPr>
              <a:t>Collection of Statistical Data</a:t>
            </a:r>
            <a:endParaRPr b="0" lang="en-US" sz="2400" spc="-1" strike="noStrike">
              <a:solidFill>
                <a:srgbClr val="000000"/>
              </a:solidFill>
              <a:latin typeface="Times New Roman"/>
            </a:endParaRPr>
          </a:p>
        </p:txBody>
      </p:sp>
      <p:sp>
        <p:nvSpPr>
          <p:cNvPr id="51" name="Text Box 25"/>
          <p:cNvSpPr/>
          <p:nvPr/>
        </p:nvSpPr>
        <p:spPr>
          <a:xfrm>
            <a:off x="466560" y="2025720"/>
            <a:ext cx="8209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524FEC6-1160-49F6-B83E-D81A80B9F12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87" name="Text Box 11"/>
          <p:cNvSpPr/>
          <p:nvPr/>
        </p:nvSpPr>
        <p:spPr>
          <a:xfrm>
            <a:off x="395280" y="1946160"/>
            <a:ext cx="842472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4 </a:t>
            </a:r>
            <a:r>
              <a:rPr b="0" lang="zh-CN" sz="2400" spc="-1" strike="noStrike">
                <a:solidFill>
                  <a:srgbClr val="000000"/>
                </a:solidFill>
                <a:latin typeface="楷体_GB2312"/>
                <a:ea typeface="楷体_GB2312"/>
              </a:rPr>
              <a:t>调查方案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调查的组织实施</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具体包括确定调查工作的领导机构，调查人员队伍的组织，调查资料的管理方法，调查前的准备工作，如培训调查人员、经费筹措、组织试点等等</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A88214C-9324-4BEF-A155-FC6FDE6CE84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91" name="Text Box 11"/>
          <p:cNvSpPr/>
          <p:nvPr/>
        </p:nvSpPr>
        <p:spPr>
          <a:xfrm>
            <a:off x="395280" y="1946160"/>
            <a:ext cx="84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问卷是用来搜集调查数据的一种工具，它与调查表的区别在于二者适用的调查范围不同，调查问卷适用于小范围群体的调查，而调查表则适用于大范围群体的调查，如人口普查。某一领域的实证研究，势必要对某一特定群体进行调查取样，因此调查问卷也是调查研究中采用非常频繁的一种方法。它是研究者用统一严格设计的问卷，通过书面语言与被调查者进行交流，来搜集研究对象关于某种问题或某种现象的信息和资料的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25C3A8B-AD3D-4317-9767-0A9BB70E5BA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95" name="Text Box 11"/>
          <p:cNvSpPr/>
          <p:nvPr/>
        </p:nvSpPr>
        <p:spPr>
          <a:xfrm>
            <a:off x="357120" y="1946160"/>
            <a:ext cx="84250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1 </a:t>
            </a:r>
            <a:r>
              <a:rPr b="0" lang="zh-CN" sz="2400" spc="-1" strike="noStrike">
                <a:solidFill>
                  <a:srgbClr val="000000"/>
                </a:solidFill>
                <a:latin typeface="楷体_GB2312"/>
                <a:ea typeface="楷体_GB2312"/>
              </a:rPr>
              <a:t>调查问卷的特点</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调查问卷的优点：</a:t>
            </a:r>
            <a:r>
              <a:rPr b="0" lang="zh-CN" sz="2000" spc="-1" strike="noStrike">
                <a:solidFill>
                  <a:srgbClr val="000000"/>
                </a:solidFill>
                <a:latin typeface="楷体_GB2312"/>
                <a:ea typeface="楷体_GB2312"/>
              </a:rPr>
              <a:t>标准化程度高；匿名性强；效率高。</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调查问卷的局限性：</a:t>
            </a:r>
            <a:r>
              <a:rPr b="0" lang="zh-CN" sz="2000" spc="-1" strike="noStrike">
                <a:solidFill>
                  <a:srgbClr val="000000"/>
                </a:solidFill>
                <a:latin typeface="楷体_GB2312"/>
                <a:ea typeface="楷体_GB2312"/>
              </a:rPr>
              <a:t>调查问卷的结果完全取决于被调查者的合作态度和实事求是的科学精神；由于局限于书面文字，问卷调查法对文盲和文化程度不高的对象难以进行调查；调查过程不深入，难以发挥调查者的主动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尽管调查问卷有一些局限性，但它仍不失为一种基本的调查研究方法，对进行调查研究具有重要的意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F3FBCC7-4F03-4442-8B91-3D19073B6A7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99" name="Text Box 11"/>
          <p:cNvSpPr/>
          <p:nvPr/>
        </p:nvSpPr>
        <p:spPr>
          <a:xfrm>
            <a:off x="357120" y="1946160"/>
            <a:ext cx="8425080" cy="24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2 </a:t>
            </a:r>
            <a:r>
              <a:rPr b="0" lang="zh-CN" sz="2400" spc="-1" strike="noStrike">
                <a:solidFill>
                  <a:srgbClr val="000000"/>
                </a:solidFill>
                <a:latin typeface="楷体_GB2312"/>
                <a:ea typeface="楷体_GB2312"/>
              </a:rPr>
              <a:t>问卷的基本结构</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卷一般由开头部分、甄别部分、主体部分和背景部分等组成，各部分在问卷中都具有不可忽视的作用。</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开头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开头部分包括问卷标题、问候语、填写说明等内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标题具有表明调查内容和调查目的的作用，它能使被调查者简明扼要的把握调查的主要内容和目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候语一般对问卷调查的目的、意义、内容作扼要的说明，以便激发被调查者对调查课题的兴趣，较客观的回答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填写说明一般是关于作答的基本方法、要求和相关注意事项的文字性说明。</a:t>
            </a:r>
            <a:endParaRPr b="0" lang="en-US" sz="2000" spc="-1" strike="noStrike">
              <a:solidFill>
                <a:srgbClr val="000000"/>
              </a:solidFill>
              <a:latin typeface="Times New Roman"/>
            </a:endParaRPr>
          </a:p>
        </p:txBody>
      </p:sp>
      <p:sp>
        <p:nvSpPr>
          <p:cNvPr id="10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C36CCEE-5CE9-426D-B2CB-0D8FAD48C0C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03" name="Text Box 11"/>
          <p:cNvSpPr/>
          <p:nvPr/>
        </p:nvSpPr>
        <p:spPr>
          <a:xfrm>
            <a:off x="357120" y="1946160"/>
            <a:ext cx="8425080" cy="38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2 </a:t>
            </a:r>
            <a:r>
              <a:rPr b="0" lang="zh-CN" sz="2400" spc="-1" strike="noStrike">
                <a:solidFill>
                  <a:srgbClr val="000000"/>
                </a:solidFill>
                <a:latin typeface="楷体_GB2312"/>
                <a:ea typeface="楷体_GB2312"/>
              </a:rPr>
              <a:t>问卷的基本结构</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甄别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甄别也称为过滤，它是先对被调查者进行过滤，筛选掉不需要的部分，然后针对特定的被调查者进行调查。下面是某个调查问卷中的甄别部分。</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请问您的年龄是： </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岁以下………终止访问 </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岁 </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0</a:t>
            </a:r>
            <a:r>
              <a:rPr b="0" lang="zh-CN" sz="1800" spc="-1" strike="noStrike">
                <a:solidFill>
                  <a:srgbClr val="000000"/>
                </a:solidFill>
                <a:latin typeface="楷体_GB2312"/>
                <a:ea typeface="楷体_GB2312"/>
              </a:rPr>
              <a:t>岁 </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继续访问</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0</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岁 </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岁以上………终止访问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pic>
        <p:nvPicPr>
          <p:cNvPr id="105" name="Picture 2" descr=""/>
          <p:cNvPicPr/>
          <p:nvPr/>
        </p:nvPicPr>
        <p:blipFill>
          <a:blip r:embed="rId1"/>
          <a:stretch/>
        </p:blipFill>
        <p:spPr>
          <a:xfrm>
            <a:off x="2556000" y="4292640"/>
            <a:ext cx="180720" cy="73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051D464-573E-4DE3-89A7-28C06FB94D8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08" name="Text Box 11"/>
          <p:cNvSpPr/>
          <p:nvPr/>
        </p:nvSpPr>
        <p:spPr>
          <a:xfrm>
            <a:off x="357120" y="1946160"/>
            <a:ext cx="8425080" cy="34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2 </a:t>
            </a:r>
            <a:r>
              <a:rPr b="0" lang="zh-CN" sz="2400" spc="-1" strike="noStrike">
                <a:solidFill>
                  <a:srgbClr val="000000"/>
                </a:solidFill>
                <a:latin typeface="楷体_GB2312"/>
                <a:ea typeface="楷体_GB2312"/>
              </a:rPr>
              <a:t>问卷的基本结构</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主体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主体部分是问卷的核心，包括所要调查的全部问题。问题的设计是否科学合理决定着一份问卷质量的高低。在封闭式问卷中，问题后必须以不同的形式附上答案；而开放式问卷中，问题后不提供待选择的答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背景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卷的最后是背景部分，主要是有关被调查者的一些背景资料。该部分所包含的各项问题，可使研究者根据背景资料对被调查者进行分类比较分析。下面是某个调查问卷中的背景部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请问您的教育程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没受过正式教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小学，初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高中，职高，中专，技校</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大专，大学或以上</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E1155A3-3DF4-4174-8B74-CA8BD0F7E1F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12" name="Text Box 11"/>
          <p:cNvSpPr/>
          <p:nvPr/>
        </p:nvSpPr>
        <p:spPr>
          <a:xfrm>
            <a:off x="357120" y="1946160"/>
            <a:ext cx="8425080" cy="22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提问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卷中的问题都要以一定的语言形式来表达，因而，问题的语言表述是否合理，也在很大程度上影响着调查问卷的质量。问题的表述应注意以下一些基本要求。</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语句简洁、通俗易懂</a:t>
            </a:r>
            <a:r>
              <a:rPr b="0" lang="zh-CN" sz="2000" spc="-1" strike="noStrike">
                <a:solidFill>
                  <a:srgbClr val="000000"/>
                </a:solidFill>
                <a:latin typeface="楷体_GB2312"/>
                <a:ea typeface="楷体_GB2312"/>
              </a:rPr>
              <a:t>。问题的表述语句形式一般应是简单疑问句，或者是不完整的简单陈述句。尽量少用复杂疑问句，疑问句中不用多重否定句。问题表述所使用的语句应是常用语句，不用生僻词语和新概念，并且用词还要考虑被调查者的文化层次和生活背景。</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1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D3E4AFD-9AF6-4E43-B8A2-D59FF86FF27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16" name="Text Box 11"/>
          <p:cNvSpPr/>
          <p:nvPr/>
        </p:nvSpPr>
        <p:spPr>
          <a:xfrm>
            <a:off x="357120" y="1946160"/>
            <a:ext cx="8425080" cy="342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提问项目的设计</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问题的内容具体、清晰、含义单一。</a:t>
            </a:r>
            <a:r>
              <a:rPr b="0" lang="zh-CN" sz="2000" spc="-1" strike="noStrike">
                <a:solidFill>
                  <a:srgbClr val="000000"/>
                </a:solidFill>
                <a:latin typeface="楷体_GB2312"/>
                <a:ea typeface="楷体_GB2312"/>
              </a:rPr>
              <a:t>问题应具体明了，问题的含义不能过于抽象。问题内容的清晰，是要求问题的表述不应使用假设或推测用语，能使被调查者获得关于问题的清晰意义。问题的含义要单一，即问题只应包括一个疑问，不应包含两种和两种以上的内容，包含两种和两种以上内容的问题，会使得被调查者不能做出确定的答案。下面的例子就属于一个问题中包含两种内容：</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觉得这种电脑的质量和价格怎么样？</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此问题应修正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觉得这种电脑的质量怎么样？</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觉得这种电脑的价格怎么样？</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1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C83C49B-EE41-4600-9167-5EB48F630CB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20" name="Text Box 11"/>
          <p:cNvSpPr/>
          <p:nvPr/>
        </p:nvSpPr>
        <p:spPr>
          <a:xfrm>
            <a:off x="357120" y="1946160"/>
            <a:ext cx="8425080" cy="337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提问项目的设计</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问题设计者应立场中立，客观谨慎，避免“暗示效应”。</a:t>
            </a:r>
            <a:r>
              <a:rPr b="0" lang="zh-CN" sz="2000" spc="-1" strike="noStrike">
                <a:solidFill>
                  <a:srgbClr val="000000"/>
                </a:solidFill>
                <a:latin typeface="楷体_GB2312"/>
                <a:ea typeface="楷体_GB2312"/>
              </a:rPr>
              <a:t>在问题的表述中，设计者不应把个人的认识、观点和评价包含在问题中，问题的表述应客观谨慎、态度中立，以免对被调查者的答案产生暗示作用。如果要调查人们对某一事件的认识和态度，问题设计者不应对该事件的性质下结论。看下面的例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人们认为联想牌电脑质量不错，你觉得怎么样？</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个问题中存在着明显的“暗示效应”，暗示被调查者对于联想牌电脑，人们普遍反映质量不错，这会对被调查者的思维产生诱导。此问题应修正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觉得联想牌电脑的质量怎么样？ </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2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ED9D102-6643-4193-ACBB-6537BD2B8DC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24" name="Text Box 11"/>
          <p:cNvSpPr/>
          <p:nvPr/>
        </p:nvSpPr>
        <p:spPr>
          <a:xfrm>
            <a:off x="357120" y="1946160"/>
            <a:ext cx="84250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提问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妥善处理与社会规范一致或冲突的问题，避免“社会认可效应”。</a:t>
            </a:r>
            <a:r>
              <a:rPr b="0" lang="zh-CN" sz="2000" spc="-1" strike="noStrike">
                <a:solidFill>
                  <a:srgbClr val="000000"/>
                </a:solidFill>
                <a:latin typeface="楷体_GB2312"/>
                <a:ea typeface="楷体_GB2312"/>
              </a:rPr>
              <a:t>所谓社会认可效应是指被调查者按照社会规范、社会期望的反应回答问题，而不反映自己的真实观点、态度和行为。在回答有关思想、政治、道德等方面问题时，人们往往按照好学生、好公民、文明行为等方面社会规范的要求而不是根据自己的实际来回答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2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7AA1FD7-5CFE-453B-A8EA-16036DCB2F3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5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
        <p:nvSpPr>
          <p:cNvPr id="55" name="Text Box 11"/>
          <p:cNvSpPr/>
          <p:nvPr/>
        </p:nvSpPr>
        <p:spPr>
          <a:xfrm>
            <a:off x="395280" y="1946160"/>
            <a:ext cx="842472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1 </a:t>
            </a:r>
            <a:r>
              <a:rPr b="0" lang="zh-CN" sz="2400" spc="-1" strike="noStrike">
                <a:solidFill>
                  <a:srgbClr val="000000"/>
                </a:solidFill>
                <a:latin typeface="楷体_GB2312"/>
                <a:ea typeface="楷体_GB2312"/>
              </a:rPr>
              <a:t>统计数据搜集的意义和要求</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的搜集，即统计调查，是根据统计研究的目的，采用科学的调查方法，有计划有组织的搜集统计资料的工作过程。统计调查质量的好坏直接影响到整个统计工作成果的优劣，甚至影响到人们对客观事物的正确判断和认识，因此统计调查必须做到准确、及时和全面。</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矩形 1"/>
          <p:cNvSpPr/>
          <p:nvPr/>
        </p:nvSpPr>
        <p:spPr>
          <a:xfrm>
            <a:off x="395280" y="40496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准确，是指统计调查资料要客观、真实的反映所研究的对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及时，是指统计调查资料应按照统一规定的时间搜集完成并上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全面，是指统计调查应按调查方面和调查表的要求，无遗漏的全面搜集统计资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A3E05F0-C21D-4401-9984-AE5A75546B4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28" name="Text Box 11"/>
          <p:cNvSpPr/>
          <p:nvPr/>
        </p:nvSpPr>
        <p:spPr>
          <a:xfrm>
            <a:off x="357120" y="1946160"/>
            <a:ext cx="8425080" cy="356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卷中的问题答案设计一般有两种情况：一种是设计者只提出问题，不提供被选择的答案，而由被调查者自己任意回答，即开放式问题；另一种是提出问题后，提供被选择的答案，即封闭式问题。</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开放式问题</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开放式问题由于不需要列出答案，所以形式很简单，在设计时，只需在问题下面留出一块空白即可。下面是一个开放式问题的例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对这款联想电脑有何更具体的看法？</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
        <p:nvSpPr>
          <p:cNvPr id="130" name="直接连接符 2"/>
          <p:cNvSpPr/>
          <p:nvPr/>
        </p:nvSpPr>
        <p:spPr>
          <a:xfrm>
            <a:off x="971640" y="5516640"/>
            <a:ext cx="42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76AA1A8-E527-4A01-917B-38397FA3135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33" name="Text Box 11"/>
          <p:cNvSpPr/>
          <p:nvPr/>
        </p:nvSpPr>
        <p:spPr>
          <a:xfrm>
            <a:off x="357120" y="1946160"/>
            <a:ext cx="8425080" cy="22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开放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开放式问题的优点是：第一，灵活性大，适应性强，适合于回答各种类型的问题；第二，有利于发挥被调查者的主动性和创造性，使他们可以充分、自由的发表自己的意见和见解；第三，开放式回答方式较封闭式回答方式能提供更多的信息，有时还可以得到一些具有启发性的回答，便于对问题进行深入的研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开放式问题也有自身的缺陷：第一，开放式回答的标准化程度较低，难以整理、分析，特别是进行定量分析；第二，开放式回答方式要求被调查者具有较高的文化素养和较强的文字表达能力；第三，需要花费较多的时间和精力，这就有可能降低问卷的回收率和有效率。</a:t>
            </a:r>
            <a:r>
              <a:rPr b="0" lang="en-US" sz="2000" spc="-1" strike="noStrike">
                <a:solidFill>
                  <a:srgbClr val="000000"/>
                </a:solidFill>
                <a:latin typeface="楷体_GB2312"/>
                <a:ea typeface="楷体_GB2312"/>
              </a:rPr>
              <a:t>        </a:t>
            </a: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713CF70-D995-4491-AC7E-83843991575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37" name="Text Box 11"/>
          <p:cNvSpPr/>
          <p:nvPr/>
        </p:nvSpPr>
        <p:spPr>
          <a:xfrm>
            <a:off x="357120" y="1946160"/>
            <a:ext cx="8425080" cy="25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封闭式问题的答案设计要遵循一些基本要求：第一，所提供的答案选项之间互不交叉或包含。第二，答案的意义明确、简洁。第三，不同层次的答案之间的逻辑层次明确，层次之间具有明显的区分度。</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封闭式问题的优点包括：第一，封闭式问题的答案是事先设计好的、标准的，这有利于被调查者理解问题和回答问题，节约回答时间，提高问卷的回收率和有效率；第二，有利于对回答的结果进行统计分析和定量研究；第三，封闭式回答方式还有利于询问一些敏感性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封闭式问题也有自身的缺陷：第一，它的设计比较困难，很难把答案设计周全；第二，一旦设计出现缺陷，被调查者则无法回答问题。</a:t>
            </a:r>
            <a:r>
              <a:rPr b="0" lang="en-US" sz="2000" spc="-1" strike="noStrike">
                <a:solidFill>
                  <a:srgbClr val="000000"/>
                </a:solidFill>
                <a:latin typeface="楷体_GB2312"/>
                <a:ea typeface="楷体_GB2312"/>
              </a:rPr>
              <a:t>    </a:t>
            </a: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01E5FAC-7314-425F-A39F-1590FD7A802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41" name="Text Box 11"/>
          <p:cNvSpPr/>
          <p:nvPr/>
        </p:nvSpPr>
        <p:spPr>
          <a:xfrm>
            <a:off x="357120" y="1946160"/>
            <a:ext cx="8425080" cy="47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封闭式问题的答案设计有一些基本格式，问题设计时可根据被调查者的特点、调查课题的性质以及统计的需要适当采用。下面介绍几种常见封闭式问题答案设计的基本格式。</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①</a:t>
            </a:r>
            <a:r>
              <a:rPr b="1" lang="zh-CN" sz="2000" spc="-1" strike="noStrike">
                <a:solidFill>
                  <a:srgbClr val="000000"/>
                </a:solidFill>
                <a:latin typeface="楷体_GB2312"/>
                <a:ea typeface="楷体_GB2312"/>
              </a:rPr>
              <a:t>是否式。</a:t>
            </a:r>
            <a:r>
              <a:rPr b="0" lang="zh-CN" sz="2000" spc="-1" strike="noStrike">
                <a:solidFill>
                  <a:srgbClr val="000000"/>
                </a:solidFill>
                <a:latin typeface="楷体_GB2312"/>
                <a:ea typeface="楷体_GB2312"/>
              </a:rPr>
              <a:t>即答案只有是和否两种方式。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是否有抽烟的习惯？</a:t>
            </a: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是（　　）否（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②</a:t>
            </a:r>
            <a:r>
              <a:rPr b="1" lang="zh-CN" sz="2000" spc="-1" strike="noStrike">
                <a:solidFill>
                  <a:srgbClr val="000000"/>
                </a:solidFill>
                <a:latin typeface="楷体_GB2312"/>
                <a:ea typeface="楷体_GB2312"/>
              </a:rPr>
              <a:t>单项选择式。</a:t>
            </a:r>
            <a:r>
              <a:rPr b="0" lang="zh-CN" sz="2000" spc="-1" strike="noStrike">
                <a:solidFill>
                  <a:srgbClr val="000000"/>
                </a:solidFill>
                <a:latin typeface="楷体_GB2312"/>
                <a:ea typeface="楷体_GB2312"/>
              </a:rPr>
              <a:t>即从两种以上的备选答案中选择一种答案。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觉得哪种类型的广告宣传效果最好？</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选一项</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电视广告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广播广告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杂志广告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报纸广告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E</a:t>
            </a:r>
            <a:r>
              <a:rPr b="0" lang="zh-CN" sz="1800" spc="-1" strike="noStrike">
                <a:solidFill>
                  <a:srgbClr val="000000"/>
                </a:solidFill>
                <a:latin typeface="楷体_GB2312"/>
                <a:ea typeface="楷体_GB2312"/>
              </a:rPr>
              <a:t>．路牌广告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F7A97C0-A1DB-43BC-9715-200346327AF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45" name="Text Box 11"/>
          <p:cNvSpPr/>
          <p:nvPr/>
        </p:nvSpPr>
        <p:spPr>
          <a:xfrm>
            <a:off x="357120" y="1946160"/>
            <a:ext cx="8425080" cy="41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③</a:t>
            </a:r>
            <a:r>
              <a:rPr b="1" lang="zh-CN" sz="2000" spc="-1" strike="noStrike">
                <a:solidFill>
                  <a:srgbClr val="000000"/>
                </a:solidFill>
                <a:latin typeface="楷体_GB2312"/>
                <a:ea typeface="楷体_GB2312"/>
              </a:rPr>
              <a:t>多项选择式。</a:t>
            </a:r>
            <a:r>
              <a:rPr b="0" lang="zh-CN" sz="2000" spc="-1" strike="noStrike">
                <a:solidFill>
                  <a:srgbClr val="000000"/>
                </a:solidFill>
                <a:latin typeface="楷体_GB2312"/>
                <a:ea typeface="楷体_GB2312"/>
              </a:rPr>
              <a:t>即从提供的多种答案中选择两种或两种以上符合个人实际的答案。究竟选择多少个答案，要根据调查的目的和任务来定。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影响你参加体育活动或体育兴趣形成的主要外在因素是（多项选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体育课的影响</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体育读物、体育新闻、体育电视节目的影响</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受家庭成员的影响</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受同学或朋友的影响</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E</a:t>
            </a:r>
            <a:r>
              <a:rPr b="0" lang="zh-CN" sz="1800" spc="-1" strike="noStrike">
                <a:solidFill>
                  <a:srgbClr val="000000"/>
                </a:solidFill>
                <a:latin typeface="楷体_GB2312"/>
                <a:ea typeface="楷体_GB2312"/>
              </a:rPr>
              <a:t>．受体育明星、体育名人的影响</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F</a:t>
            </a:r>
            <a:r>
              <a:rPr b="0" lang="zh-CN" sz="1800" spc="-1" strike="noStrike">
                <a:solidFill>
                  <a:srgbClr val="000000"/>
                </a:solidFill>
                <a:latin typeface="楷体_GB2312"/>
                <a:ea typeface="楷体_GB2312"/>
              </a:rPr>
              <a:t>．说不清楚</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1791736-017D-47EE-9E69-275EA8BA876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49" name="Text Box 11"/>
          <p:cNvSpPr/>
          <p:nvPr/>
        </p:nvSpPr>
        <p:spPr>
          <a:xfrm>
            <a:off x="357120" y="1946160"/>
            <a:ext cx="8425080" cy="41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④</a:t>
            </a:r>
            <a:r>
              <a:rPr b="1" lang="zh-CN" sz="2000" spc="-1" strike="noStrike">
                <a:solidFill>
                  <a:srgbClr val="000000"/>
                </a:solidFill>
                <a:latin typeface="楷体_GB2312"/>
                <a:ea typeface="楷体_GB2312"/>
              </a:rPr>
              <a:t>顺序选择式。</a:t>
            </a:r>
            <a:r>
              <a:rPr b="0" lang="zh-CN" sz="2000" spc="-1" strike="noStrike">
                <a:solidFill>
                  <a:srgbClr val="000000"/>
                </a:solidFill>
                <a:latin typeface="楷体_GB2312"/>
                <a:ea typeface="楷体_GB2312"/>
              </a:rPr>
              <a:t>每个问题后有许多答案，要求被调查者按照一定的标准对这些答案评定等级层次，并依次排出顺序。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在购买这种牌子的电脑时，主要考虑哪些因素？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产品的品牌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价格合理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售后服务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外形美观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E</a:t>
            </a:r>
            <a:r>
              <a:rPr b="0" lang="zh-CN" sz="1800" spc="-1" strike="noStrike">
                <a:solidFill>
                  <a:srgbClr val="000000"/>
                </a:solidFill>
                <a:latin typeface="楷体_GB2312"/>
                <a:ea typeface="楷体_GB2312"/>
              </a:rPr>
              <a:t>．维修方便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按重要程度进行排序） </a:t>
            </a:r>
            <a:r>
              <a:rPr b="0" lang="en-US" sz="1800" spc="-1" strike="noStrike" u="sng">
                <a:solidFill>
                  <a:srgbClr val="000000"/>
                </a:solidFill>
                <a:uFillTx/>
                <a:latin typeface="楷体_GB2312"/>
                <a:ea typeface="楷体_GB2312"/>
              </a:rPr>
              <a:t>    </a:t>
            </a: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
        <p:nvSpPr>
          <p:cNvPr id="151" name="直接连接符 5"/>
          <p:cNvSpPr/>
          <p:nvPr/>
        </p:nvSpPr>
        <p:spPr>
          <a:xfrm>
            <a:off x="3492360" y="5661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ED61762-6F5C-406E-82E5-6DBFD7500BB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54" name="Text Box 11"/>
          <p:cNvSpPr/>
          <p:nvPr/>
        </p:nvSpPr>
        <p:spPr>
          <a:xfrm>
            <a:off x="357120" y="1946160"/>
            <a:ext cx="8425080" cy="23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⑤</a:t>
            </a:r>
            <a:r>
              <a:rPr b="1" lang="zh-CN" sz="2000" spc="-1" strike="noStrike">
                <a:solidFill>
                  <a:srgbClr val="000000"/>
                </a:solidFill>
                <a:latin typeface="楷体_GB2312"/>
                <a:ea typeface="楷体_GB2312"/>
              </a:rPr>
              <a:t>评定尺度式。</a:t>
            </a:r>
            <a:r>
              <a:rPr b="0" lang="zh-CN" sz="2000" spc="-1" strike="noStrike">
                <a:solidFill>
                  <a:srgbClr val="000000"/>
                </a:solidFill>
                <a:latin typeface="楷体_GB2312"/>
                <a:ea typeface="楷体_GB2312"/>
              </a:rPr>
              <a:t>问题的答案由表示不同等级的形容词组成，并按照一定的程度排序，由被调查者依次选择。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您对学校的体育场地设施是否满意（根据您的看法，请在所给答案后□的内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A.</a:t>
            </a:r>
            <a:r>
              <a:rPr b="0" lang="zh-CN" sz="1800" spc="-1" strike="noStrike">
                <a:solidFill>
                  <a:srgbClr val="000000"/>
                </a:solidFill>
                <a:latin typeface="楷体_GB2312"/>
                <a:ea typeface="楷体_GB2312"/>
              </a:rPr>
              <a:t>很满意□</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B.</a:t>
            </a:r>
            <a:r>
              <a:rPr b="0" lang="zh-CN" sz="1800" spc="-1" strike="noStrike">
                <a:solidFill>
                  <a:srgbClr val="000000"/>
                </a:solidFill>
                <a:latin typeface="楷体_GB2312"/>
                <a:ea typeface="楷体_GB2312"/>
              </a:rPr>
              <a:t>满意□</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C.</a:t>
            </a:r>
            <a:r>
              <a:rPr b="0" lang="zh-CN" sz="1800" spc="-1" strike="noStrike">
                <a:solidFill>
                  <a:srgbClr val="000000"/>
                </a:solidFill>
                <a:latin typeface="楷体_GB2312"/>
                <a:ea typeface="楷体_GB2312"/>
              </a:rPr>
              <a:t>一般□</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D.</a:t>
            </a:r>
            <a:r>
              <a:rPr b="0" lang="zh-CN" sz="1800" spc="-1" strike="noStrike">
                <a:solidFill>
                  <a:srgbClr val="000000"/>
                </a:solidFill>
                <a:latin typeface="楷体_GB2312"/>
                <a:ea typeface="楷体_GB2312"/>
              </a:rPr>
              <a:t>不满意□</a:t>
            </a: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E.</a:t>
            </a:r>
            <a:r>
              <a:rPr b="0" lang="zh-CN" sz="1800" spc="-1" strike="noStrike">
                <a:solidFill>
                  <a:srgbClr val="000000"/>
                </a:solidFill>
                <a:latin typeface="楷体_GB2312"/>
                <a:ea typeface="楷体_GB2312"/>
              </a:rPr>
              <a:t>很不满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693C8D1-0783-44B5-BB3C-5D19B3B3845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58" name="Text Box 11"/>
          <p:cNvSpPr/>
          <p:nvPr/>
        </p:nvSpPr>
        <p:spPr>
          <a:xfrm>
            <a:off x="357120" y="1946160"/>
            <a:ext cx="8425080" cy="210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答项目的设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封闭式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⑥</a:t>
            </a:r>
            <a:r>
              <a:rPr b="1" lang="zh-CN" sz="2000" spc="-1" strike="noStrike">
                <a:solidFill>
                  <a:srgbClr val="000000"/>
                </a:solidFill>
                <a:latin typeface="楷体_GB2312"/>
                <a:ea typeface="楷体_GB2312"/>
              </a:rPr>
              <a:t>双向列联式。</a:t>
            </a:r>
            <a:r>
              <a:rPr b="0" lang="zh-CN" sz="2000" spc="-1" strike="noStrike">
                <a:solidFill>
                  <a:srgbClr val="000000"/>
                </a:solidFill>
                <a:latin typeface="楷体_GB2312"/>
                <a:ea typeface="楷体_GB2312"/>
              </a:rPr>
              <a:t>将两类不同问题综合到一起，通常用表格来表现，表的横向是一类问题，纵向是另一类问题。这种问题结构可以反映两方面因素的综合作用，提供单一类型问题无法提供的信息，并且可以节省问卷的篇幅。例如：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请在您赞同项目的空格内划“√”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graphicFrame>
        <p:nvGraphicFramePr>
          <p:cNvPr id="160" name=""/>
          <p:cNvGraphicFramePr/>
          <p:nvPr/>
        </p:nvGraphicFramePr>
        <p:xfrm>
          <a:off x="971640" y="4724280"/>
          <a:ext cx="4392360" cy="1729080"/>
        </p:xfrm>
        <a:graphic>
          <a:graphicData uri="http://schemas.openxmlformats.org/drawingml/2006/table">
            <a:tbl>
              <a:tblPr/>
              <a:tblGrid>
                <a:gridCol w="1581120"/>
                <a:gridCol w="919080"/>
                <a:gridCol w="946080"/>
                <a:gridCol w="946080"/>
              </a:tblGrid>
              <a:tr h="2872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奥迪</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丰田</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别克</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外观大方</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872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乘坐舒适</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价格合理</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872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耗油量低</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售后服务好</a:t>
                      </a:r>
                      <a:endParaRPr b="0" lang="en-US" sz="18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1DE241D-3880-4732-A3B6-0D88F852DF9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 </a:t>
            </a:r>
            <a:r>
              <a:rPr b="0" lang="zh-CN" sz="2400" spc="-1" strike="noStrike">
                <a:solidFill>
                  <a:srgbClr val="000000"/>
                </a:solidFill>
                <a:latin typeface="楷体_GB2312"/>
                <a:ea typeface="楷体_GB2312"/>
              </a:rPr>
              <a:t>调查问卷设计</a:t>
            </a:r>
            <a:endParaRPr b="0" lang="en-US" sz="2400" spc="-1" strike="noStrike">
              <a:solidFill>
                <a:srgbClr val="000000"/>
              </a:solidFill>
              <a:latin typeface="Times New Roman"/>
            </a:endParaRPr>
          </a:p>
        </p:txBody>
      </p:sp>
      <p:sp>
        <p:nvSpPr>
          <p:cNvPr id="163" name="Text Box 11"/>
          <p:cNvSpPr/>
          <p:nvPr/>
        </p:nvSpPr>
        <p:spPr>
          <a:xfrm>
            <a:off x="357120" y="1946160"/>
            <a:ext cx="842508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2.3 </a:t>
            </a:r>
            <a:r>
              <a:rPr b="0" lang="zh-CN" sz="2400" spc="-1" strike="noStrike">
                <a:solidFill>
                  <a:srgbClr val="000000"/>
                </a:solidFill>
                <a:latin typeface="楷体_GB2312"/>
                <a:ea typeface="楷体_GB2312"/>
              </a:rPr>
              <a:t>问卷的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问题顺序的设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问卷不是由问题随意排列构成的。问题的排列要遵循一定的规则，使问题之间具有一定的逻辑联系，并保证问题的自然过渡。一般来说，问题的排列应遵循以下五条原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同类组合。</a:t>
            </a:r>
            <a:r>
              <a:rPr b="0" lang="zh-CN" sz="2000" spc="-1" strike="noStrike">
                <a:solidFill>
                  <a:srgbClr val="000000"/>
                </a:solidFill>
                <a:latin typeface="楷体_GB2312"/>
                <a:ea typeface="楷体_GB2312"/>
              </a:rPr>
              <a:t>即将相同性质的问题编排在一起，既便于被调查者回答，又便于对问卷进行统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先易后难。</a:t>
            </a:r>
            <a:r>
              <a:rPr b="0" lang="zh-CN" sz="2000" spc="-1" strike="noStrike">
                <a:solidFill>
                  <a:srgbClr val="000000"/>
                </a:solidFill>
                <a:latin typeface="楷体_GB2312"/>
                <a:ea typeface="楷体_GB2312"/>
              </a:rPr>
              <a:t>即把容易的问题排在前面，把较难的问题排在后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先大后小。</a:t>
            </a:r>
            <a:r>
              <a:rPr b="0" lang="zh-CN" sz="2000" spc="-1" strike="noStrike">
                <a:solidFill>
                  <a:srgbClr val="000000"/>
                </a:solidFill>
                <a:latin typeface="楷体_GB2312"/>
                <a:ea typeface="楷体_GB2312"/>
              </a:rPr>
              <a:t>即把概括性、背景性的问题排在前面，把涉及具体细节的问题放在后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先次要后主要。</a:t>
            </a:r>
            <a:r>
              <a:rPr b="0" lang="zh-CN" sz="2000" spc="-1" strike="noStrike">
                <a:solidFill>
                  <a:srgbClr val="000000"/>
                </a:solidFill>
                <a:latin typeface="楷体_GB2312"/>
                <a:ea typeface="楷体_GB2312"/>
              </a:rPr>
              <a:t>即将对调查任务来说相对次要的问题排在前面，把关键性问题置于后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先封闭后开放。</a:t>
            </a:r>
            <a:r>
              <a:rPr b="0" lang="zh-CN" sz="2000" spc="-1" strike="noStrike">
                <a:solidFill>
                  <a:srgbClr val="000000"/>
                </a:solidFill>
                <a:latin typeface="楷体_GB2312"/>
                <a:ea typeface="楷体_GB2312"/>
              </a:rPr>
              <a:t>即将封闭式问题置前，把开放式问题置后。</a:t>
            </a:r>
            <a:endParaRPr b="0" lang="en-US" sz="2000" spc="-1" strike="noStrike">
              <a:solidFill>
                <a:srgbClr val="000000"/>
              </a:solidFill>
              <a:latin typeface="Times New Roman"/>
            </a:endParaRPr>
          </a:p>
        </p:txBody>
      </p:sp>
      <p:sp>
        <p:nvSpPr>
          <p:cNvPr id="16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Questionnaire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0CADC12-7EC1-4889-8503-14266635EAC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67" name="Text Box 11"/>
          <p:cNvSpPr/>
          <p:nvPr/>
        </p:nvSpPr>
        <p:spPr>
          <a:xfrm>
            <a:off x="357120" y="1946160"/>
            <a:ext cx="842508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我国的统计实践中，经常采用的调查方式有普查、统计报表制度、抽样调查、重点调查和典型调查。</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普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普查是为某一特定目的专门组织的一次性全面调查。它主要用来搜集某些不能够或不适宜用统计报表搜集的统计资料。普查的主要特点有：（</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普查是一种不连续的调查。普查的对象大多为时点现象，它的数量在短时期内变动不大，不需要连续观察登记，只要间隔一段时期做一次全面调查即可。（</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普查是为特定目的专门组织的调查，因此调查项目多，内容详细，涉及广泛，需要花费大量的人力、物力、财力和时间。</a:t>
            </a:r>
            <a:endParaRPr b="0" lang="en-US" sz="2000" spc="-1" strike="noStrike">
              <a:solidFill>
                <a:srgbClr val="000000"/>
              </a:solidFill>
              <a:latin typeface="Times New Roman"/>
            </a:endParaRPr>
          </a:p>
        </p:txBody>
      </p:sp>
      <p:sp>
        <p:nvSpPr>
          <p:cNvPr id="16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AD4A7F2-3E65-4CBB-92D1-9ACBF722DE2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59" name="Text Box 11"/>
          <p:cNvSpPr/>
          <p:nvPr/>
        </p:nvSpPr>
        <p:spPr>
          <a:xfrm>
            <a:off x="395280" y="1946160"/>
            <a:ext cx="8424720" cy="218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2 </a:t>
            </a:r>
            <a:r>
              <a:rPr b="0" lang="zh-CN" sz="2400" spc="-1" strike="noStrike">
                <a:solidFill>
                  <a:srgbClr val="000000"/>
                </a:solidFill>
                <a:latin typeface="楷体_GB2312"/>
                <a:ea typeface="楷体_GB2312"/>
              </a:rPr>
              <a:t>统计调查的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调查可以从不同的角度进行分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按搜集资料的组织方式不同，可分为统计报表制度和专门调查。</a:t>
            </a:r>
            <a:r>
              <a:rPr b="0" lang="zh-CN" sz="2000" spc="-1" strike="noStrike">
                <a:solidFill>
                  <a:srgbClr val="000000"/>
                </a:solidFill>
                <a:latin typeface="楷体_GB2312"/>
                <a:ea typeface="楷体_GB2312"/>
              </a:rPr>
              <a:t>统计报表制度是指按照国家统一规定的调查要求，以原始记录为依据填报报表并自下而上逐级提供统计资料的一种调查方式；专门调查是指为研究某些社会经济现象专门组织的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按调查对象包括的范围不同，可分为全面调查和非全面调查。</a:t>
            </a:r>
            <a:r>
              <a:rPr b="0" lang="zh-CN" sz="2000" spc="-1" strike="noStrike">
                <a:solidFill>
                  <a:srgbClr val="000000"/>
                </a:solidFill>
                <a:latin typeface="楷体_GB2312"/>
                <a:ea typeface="楷体_GB2312"/>
              </a:rPr>
              <a:t>全面调查是对调查对象的所有单位全部进行调查；非全面调查是对调查对象的部分单位进行的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按调查登记时间是否连续，可分为经常性调查和一次性调查。</a:t>
            </a:r>
            <a:r>
              <a:rPr b="0" lang="zh-CN" sz="2000" spc="-1" strike="noStrike">
                <a:solidFill>
                  <a:srgbClr val="000000"/>
                </a:solidFill>
                <a:latin typeface="楷体_GB2312"/>
                <a:ea typeface="楷体_GB2312"/>
              </a:rPr>
              <a:t>经常性调查是随着调查对象发生的时间经常、连续不断的进行调查登记；一次性调查是指对调查对象不连续的调查登记，即间隔一段时期进行的调查。</a:t>
            </a:r>
            <a:endParaRPr b="0" lang="en-US" sz="2000" spc="-1" strike="noStrike">
              <a:solidFill>
                <a:srgbClr val="000000"/>
              </a:solidFill>
              <a:latin typeface="Times New Roman"/>
            </a:endParaRPr>
          </a:p>
        </p:txBody>
      </p:sp>
      <p:sp>
        <p:nvSpPr>
          <p:cNvPr id="6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7E38C4C-BEBA-4F46-B7FF-AB6210069C8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71" name="Text Box 11"/>
          <p:cNvSpPr/>
          <p:nvPr/>
        </p:nvSpPr>
        <p:spPr>
          <a:xfrm>
            <a:off x="357120" y="1946160"/>
            <a:ext cx="842508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普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普查的基本要求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一规定普查资料所属标准时间，避免因调查时间不一致产生的重复和遗漏现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各调查单位应尽可能同时进行调查登记并在尽量短的期限内完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调查项目一经确定，不得任意增减，以免影响综合汇总，降低资料质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普查尽可能按一定周期举行，以便于历史资料动态对比，研究调查对象的发展变化规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为保证普查资料的质量，要充分做好普查前的试点和普查后的质量检验和修正工作。</a:t>
            </a:r>
            <a:endParaRPr b="0" lang="en-US" sz="2000" spc="-1" strike="noStrike">
              <a:solidFill>
                <a:srgbClr val="000000"/>
              </a:solidFill>
              <a:latin typeface="Times New Roman"/>
            </a:endParaRPr>
          </a:p>
        </p:txBody>
      </p:sp>
      <p:sp>
        <p:nvSpPr>
          <p:cNvPr id="17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0E25720-A9EE-43FD-B932-AA90C41B4FE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75" name="Text Box 11"/>
          <p:cNvSpPr/>
          <p:nvPr/>
        </p:nvSpPr>
        <p:spPr>
          <a:xfrm>
            <a:off x="357120" y="1946160"/>
            <a:ext cx="842508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统计报表制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报表制度是我国搜集统计资料的一种重要方式，也是我国政府统计工作的一项基本内容。简单的说，统计报表制度是国家对统计报表按照统计法的要求制定并实施的一套管理办法，具体包括报表表式设计，报表中指标体系的确定，报表的实施范围，报送程序、报送时间的确定以及报表管理方法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目前我国统计报表可以有四种分类方法：（</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按制发机关不同分为国家统计报表、部门统计报表和地方统计报表；（</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按调查范围不同分为全面统计报表和非全面统计报表；（</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按报送周期长短不同分为日报、旬报、月报、季报、半年报和年报；（</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按填报单位不同分为基层统计报表和综合统计报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48A4DAB-C448-47B3-AC26-1B7123D9D3F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79" name="Text Box 11"/>
          <p:cNvSpPr/>
          <p:nvPr/>
        </p:nvSpPr>
        <p:spPr>
          <a:xfrm>
            <a:off x="357120" y="1946160"/>
            <a:ext cx="842508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统计报表制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报表制度的主要特点有：（</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报表的表格形式、指标内容、计算方法以及报送时间、报送程序都由国家统一规定，并受《统计法》及相关统计制度的约束，在报表实施的范围内各单位都必须执行。（</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统计报表自下而上逐级汇总，这不仅可以满足基层单位和整个国家管理的需要，而且还为各地区、各部门提供了经济管理的基本数据。（</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统计报表制度是一种定期的连续的调查方式，而且统计报表中的调查项目相对稳定，有利于系统的积累资料并进行动态对比分析研究。（</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统计报表制度是建立在基层单位原始记录基础之上的，因此，原始记录工作质量直接影响统计报表提供数字资料的真实性和可靠性。</a:t>
            </a:r>
            <a:endParaRPr b="0" lang="en-US" sz="2000" spc="-1" strike="noStrike">
              <a:solidFill>
                <a:srgbClr val="000000"/>
              </a:solidFill>
              <a:latin typeface="Times New Roman"/>
            </a:endParaRPr>
          </a:p>
        </p:txBody>
      </p:sp>
      <p:sp>
        <p:nvSpPr>
          <p:cNvPr id="18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931C5FF-A17F-4A58-9D51-70273376A54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83" name="Text Box 11"/>
          <p:cNvSpPr/>
          <p:nvPr/>
        </p:nvSpPr>
        <p:spPr>
          <a:xfrm>
            <a:off x="357120" y="1946160"/>
            <a:ext cx="842508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抽样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抽样调查是按照随机原则，从调查对象中抽取一部分单位作为样本进行调查，然后依据样本数据，以一定的概率保证程度对调查对象总体的数量特征进行判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抽样调查的主要特点是：（</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按照随机原则抽取样本；（</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可以从数量上推算总体，这是其他非全面调查所不及的；（</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用样本数据推算总体的数量特征，不可避免的会产生误差，但是这个误差可以事先计算并加以控制；（</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抽样调查适用于对各个领域和各种问题的调查；（</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抽样调查经济性强，时效性高。</a:t>
            </a:r>
            <a:endParaRPr b="0" lang="en-US" sz="2000" spc="-1" strike="noStrike">
              <a:solidFill>
                <a:srgbClr val="000000"/>
              </a:solidFill>
              <a:latin typeface="Times New Roman"/>
            </a:endParaRPr>
          </a:p>
        </p:txBody>
      </p:sp>
      <p:sp>
        <p:nvSpPr>
          <p:cNvPr id="18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3091BB2-A58D-49D4-9BCD-4C52D301C6F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87" name="Text Box 11"/>
          <p:cNvSpPr/>
          <p:nvPr/>
        </p:nvSpPr>
        <p:spPr>
          <a:xfrm>
            <a:off x="357120" y="1946160"/>
            <a:ext cx="842508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重点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重点调查是指为了解调查对象基本情况，从调查对象总体中选择部分重点单位进行调查，它是一种非全面调查。搞好重点调查的关键在于重点单位的选择，所谓重点单位是指总体中的一小部分单位，但其某一主要标志的标志总量在全部总体指标数值中占有较大比重。例如，要了解全国钢铁行业生产的基本情况，只对几个大型钢铁联合企业进行调查就可以了，因为这几个大型联合企业的钢铁产量占全国钢铁产量的比重非常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重点调查由于调查单位少，可以节省人力、物力和财力。重点调查既可用于经常性调查，也可用于一次性调查，具有较大的灵活性。但是，重点调查不能由重点单位的情况推算总体的数量特征，这是重点调查的局限所在。</a:t>
            </a:r>
            <a:endParaRPr b="0" lang="en-US" sz="2000" spc="-1" strike="noStrike">
              <a:solidFill>
                <a:srgbClr val="000000"/>
              </a:solidFill>
              <a:latin typeface="Times New Roman"/>
            </a:endParaRPr>
          </a:p>
        </p:txBody>
      </p:sp>
      <p:sp>
        <p:nvSpPr>
          <p:cNvPr id="18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469A33E-22C3-426F-B29A-F5E2B68E985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91" name="Text Box 11"/>
          <p:cNvSpPr/>
          <p:nvPr/>
        </p:nvSpPr>
        <p:spPr>
          <a:xfrm>
            <a:off x="357120" y="1946160"/>
            <a:ext cx="84250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1 </a:t>
            </a:r>
            <a:r>
              <a:rPr b="0" lang="zh-CN" sz="2400" spc="-1" strike="noStrike">
                <a:solidFill>
                  <a:srgbClr val="000000"/>
                </a:solidFill>
                <a:latin typeface="楷体_GB2312"/>
                <a:ea typeface="楷体_GB2312"/>
              </a:rPr>
              <a:t>统计调查方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典型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典型调查也是一种非全面调查，它是根据调查研究的目的和要求，在对调查对象做深入了解的基础上，有意识的选择具有代表性的个别单位进行调查的方式。与其它调查方式相比，典型调查更容易受人主观意识的影响，一般侧重于定性分析。应用典型调查，深入典型单位做深入细致的调查研究，可以了解到事物发展变化的进程、事物发展变化的原因等等许多数量特征以外的东西。与重点调查一样，典型调查资料同样不具备由部分单位推算总体总量特征的条件。</a:t>
            </a:r>
            <a:endParaRPr b="0" lang="en-US" sz="2000" spc="-1" strike="noStrike">
              <a:solidFill>
                <a:srgbClr val="000000"/>
              </a:solidFill>
              <a:latin typeface="Times New Roman"/>
            </a:endParaRPr>
          </a:p>
        </p:txBody>
      </p:sp>
      <p:sp>
        <p:nvSpPr>
          <p:cNvPr id="19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6182EB5-5952-49FD-BE30-0432E61F399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95" name="Text Box 11"/>
          <p:cNvSpPr/>
          <p:nvPr/>
        </p:nvSpPr>
        <p:spPr>
          <a:xfrm>
            <a:off x="357120" y="1946160"/>
            <a:ext cx="842508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2 </a:t>
            </a:r>
            <a:r>
              <a:rPr b="0" lang="zh-CN" sz="2400" spc="-1" strike="noStrike">
                <a:solidFill>
                  <a:srgbClr val="000000"/>
                </a:solidFill>
                <a:latin typeface="楷体_GB2312"/>
                <a:ea typeface="楷体_GB2312"/>
              </a:rPr>
              <a:t>统计调查方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调查方法归纳起来可分为询问调查法和观察实验法两大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询问调查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询问调查法是最常用、最基本的一种调查方法，通过访问人员与被访问者的直接或间接接触获得所需数据，包括访问、邮寄、电话、座谈会、网络调查等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访问调查。</a:t>
            </a:r>
            <a:r>
              <a:rPr b="0" lang="zh-CN" sz="2000" spc="-1" strike="noStrike">
                <a:solidFill>
                  <a:srgbClr val="000000"/>
                </a:solidFill>
                <a:latin typeface="楷体_GB2312"/>
                <a:ea typeface="楷体_GB2312"/>
              </a:rPr>
              <a:t>访问调查是一种直接访问，是通过调查者与被调查者面对面交谈，如入户访问、街上阻截、客户走访等，从而得到所需资料的调查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邮寄调查。</a:t>
            </a:r>
            <a:r>
              <a:rPr b="0" lang="zh-CN" sz="2000" spc="-1" strike="noStrike">
                <a:solidFill>
                  <a:srgbClr val="000000"/>
                </a:solidFill>
                <a:latin typeface="楷体_GB2312"/>
                <a:ea typeface="楷体_GB2312"/>
              </a:rPr>
              <a:t>邮寄调查是将设计好的问卷邮寄给被调查者，请他们答好再寄回，从而搜集信息。</a:t>
            </a:r>
            <a:endParaRPr b="0" lang="en-US" sz="2000" spc="-1" strike="noStrike">
              <a:solidFill>
                <a:srgbClr val="000000"/>
              </a:solidFill>
              <a:latin typeface="Times New Roman"/>
            </a:endParaRPr>
          </a:p>
        </p:txBody>
      </p:sp>
      <p:sp>
        <p:nvSpPr>
          <p:cNvPr id="19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F7FE0E9-8AD7-4202-B45B-78EA14134EF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199" name="Text Box 11"/>
          <p:cNvSpPr/>
          <p:nvPr/>
        </p:nvSpPr>
        <p:spPr>
          <a:xfrm>
            <a:off x="357120" y="1946160"/>
            <a:ext cx="8425080" cy="22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2 </a:t>
            </a:r>
            <a:r>
              <a:rPr b="0" lang="zh-CN" sz="2400" spc="-1" strike="noStrike">
                <a:solidFill>
                  <a:srgbClr val="000000"/>
                </a:solidFill>
                <a:latin typeface="楷体_GB2312"/>
                <a:ea typeface="楷体_GB2312"/>
              </a:rPr>
              <a:t>统计调查方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询问调查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电话调查。</a:t>
            </a:r>
            <a:r>
              <a:rPr b="0" lang="zh-CN" sz="2000" spc="-1" strike="noStrike">
                <a:solidFill>
                  <a:srgbClr val="000000"/>
                </a:solidFill>
                <a:latin typeface="楷体_GB2312"/>
                <a:ea typeface="楷体_GB2312"/>
              </a:rPr>
              <a:t>电话调查是选取一定的受访者样本，通过拨打电话的形式，访问问卷上所列出的一系列问题，在访问过程中记下答案。</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座谈会。</a:t>
            </a:r>
            <a:r>
              <a:rPr b="0" lang="zh-CN" sz="2000" spc="-1" strike="noStrike">
                <a:solidFill>
                  <a:srgbClr val="000000"/>
                </a:solidFill>
                <a:latin typeface="楷体_GB2312"/>
                <a:ea typeface="楷体_GB2312"/>
              </a:rPr>
              <a:t>座谈会是一种典型的集体访问方法，调查者邀请若干被调查者，通过集体座谈对某个特定的主题进行深度访问。</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网络调查。</a:t>
            </a:r>
            <a:r>
              <a:rPr b="0" lang="zh-CN" sz="2000" spc="-1" strike="noStrike">
                <a:solidFill>
                  <a:srgbClr val="000000"/>
                </a:solidFill>
                <a:latin typeface="楷体_GB2312"/>
                <a:ea typeface="楷体_GB2312"/>
              </a:rPr>
              <a:t>网络调查是传统调查在新的信息传播媒体上的应用，它是指在互联网上针对特定问题进行的调查设计、资料收集等活动，实现调查的在线化、智能化。网络调查包括网上问卷调查法、网上讨论法、网上观察法等方法。网络调查与传统调查方法相比，其优点在于简单易行，成本较低，不受时间和空间的限制，在短期内便可获得大量的调查资料。</a:t>
            </a:r>
            <a:endParaRPr b="0" lang="en-US" sz="2000" spc="-1" strike="noStrike">
              <a:solidFill>
                <a:srgbClr val="000000"/>
              </a:solidFill>
              <a:latin typeface="Times New Roman"/>
            </a:endParaRPr>
          </a:p>
        </p:txBody>
      </p:sp>
      <p:sp>
        <p:nvSpPr>
          <p:cNvPr id="20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0FF0F49-DFF0-4078-A965-B382AA43C5E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 </a:t>
            </a:r>
            <a:r>
              <a:rPr b="0" lang="zh-CN" sz="2400" spc="-1" strike="noStrike">
                <a:solidFill>
                  <a:srgbClr val="000000"/>
                </a:solidFill>
                <a:latin typeface="楷体_GB2312"/>
                <a:ea typeface="楷体_GB2312"/>
              </a:rPr>
              <a:t>统计调查体系</a:t>
            </a:r>
            <a:endParaRPr b="0" lang="en-US" sz="2400" spc="-1" strike="noStrike">
              <a:solidFill>
                <a:srgbClr val="000000"/>
              </a:solidFill>
              <a:latin typeface="Times New Roman"/>
            </a:endParaRPr>
          </a:p>
        </p:txBody>
      </p:sp>
      <p:sp>
        <p:nvSpPr>
          <p:cNvPr id="203" name="Text Box 11"/>
          <p:cNvSpPr/>
          <p:nvPr/>
        </p:nvSpPr>
        <p:spPr>
          <a:xfrm>
            <a:off x="357120" y="1946160"/>
            <a:ext cx="842508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3.2 </a:t>
            </a:r>
            <a:r>
              <a:rPr b="0" lang="zh-CN" sz="2400" spc="-1" strike="noStrike">
                <a:solidFill>
                  <a:srgbClr val="000000"/>
                </a:solidFill>
                <a:latin typeface="楷体_GB2312"/>
                <a:ea typeface="楷体_GB2312"/>
              </a:rPr>
              <a:t>统计调查方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观察实验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观察实验法是调查者通过直接的观察或实验获得数据的一种方法，可分为观察调查法和实验调查法两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观察调查法。</a:t>
            </a:r>
            <a:r>
              <a:rPr b="0" lang="zh-CN" sz="2000" spc="-1" strike="noStrike">
                <a:solidFill>
                  <a:srgbClr val="000000"/>
                </a:solidFill>
                <a:latin typeface="楷体_GB2312"/>
                <a:ea typeface="楷体_GB2312"/>
              </a:rPr>
              <a:t>观察调查法是指在某项正在进行的统计调查中，调查者并非直接和被调查者交涉，而是在被调查者毫无准备的情况下，调查者就被调查对象的行动和意识，边观察边记录以搜集信息的方法。利用这种方法，调查者可以直接在被访者最自然的状态下搜集到所需的资料，这样得到的数据往往比较真实。</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实验调查法。</a:t>
            </a:r>
            <a:r>
              <a:rPr b="0" lang="zh-CN" sz="2000" spc="-1" strike="noStrike">
                <a:solidFill>
                  <a:srgbClr val="000000"/>
                </a:solidFill>
                <a:latin typeface="楷体_GB2312"/>
                <a:ea typeface="楷体_GB2312"/>
              </a:rPr>
              <a:t>实验调查法是在所设定的特殊实验场所、特殊状态下，对调查对象进行实验以取得所需资料的一种调查方法。其目的是控制一个或多个自变量（如价格、广告等），研究在其它因素都不变或相同的情况下，这些自变量对因变量（如销售量）的影响，因此实验调查法又称因果性调查。</a:t>
            </a:r>
            <a:endParaRPr b="0" lang="en-US" sz="2000" spc="-1" strike="noStrike">
              <a:solidFill>
                <a:srgbClr val="000000"/>
              </a:solidFill>
              <a:latin typeface="Times New Roman"/>
            </a:endParaRPr>
          </a:p>
        </p:txBody>
      </p:sp>
      <p:sp>
        <p:nvSpPr>
          <p:cNvPr id="2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atistical Investigat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7AEC5A1-F511-4CDA-BB35-B51723E4F7A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207" name="Text Box 11"/>
          <p:cNvSpPr/>
          <p:nvPr/>
        </p:nvSpPr>
        <p:spPr>
          <a:xfrm>
            <a:off x="357120" y="194616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数据搜集的基本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数据搜集的意义和要求。统计数据的搜集，即统计调查，是根据统计研究的目的，采用科学的调查方法，有计划有组织的搜集统计资料的工作过程。统计数据的整理和分析研究是在统计调查搜集到的数据基础上进行的，统计调查质量的好坏直接影响到整个统计工作成果的优劣，甚至影响到人们对客观事物的正确判断和认识，因此统计调查必须做到准确、及时和全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统计调查的种类。按搜集资料的组织方式不同，可分为统计报表制度和专门调查；按调查对象包括的范围不同，可分为全面调查和非全面调查；按调查登记时间是否连续，可分为经常性调查和一次性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A50941C-6009-446F-89BA-BC97030FE3B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63" name="Text Box 11"/>
          <p:cNvSpPr/>
          <p:nvPr/>
        </p:nvSpPr>
        <p:spPr>
          <a:xfrm>
            <a:off x="395280" y="1946160"/>
            <a:ext cx="8424720" cy="195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3 </a:t>
            </a:r>
            <a:r>
              <a:rPr b="0" lang="zh-CN" sz="2400" spc="-1" strike="noStrike">
                <a:solidFill>
                  <a:srgbClr val="000000"/>
                </a:solidFill>
                <a:latin typeface="楷体_GB2312"/>
                <a:ea typeface="楷体_GB2312"/>
              </a:rPr>
              <a:t>统计数据的来源与误差</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统计数据的来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直接来源：</a:t>
            </a:r>
            <a:r>
              <a:rPr b="0" lang="zh-CN" sz="2000" spc="-1" strike="noStrike">
                <a:solidFill>
                  <a:srgbClr val="000000"/>
                </a:solidFill>
                <a:latin typeface="楷体_GB2312"/>
                <a:ea typeface="楷体_GB2312"/>
              </a:rPr>
              <a:t>统计数据的直接来源主要有两个渠道：专门调查和科学试验。专门调查是取得社会经济数据的重要手段，如国家统计部门进行的人口、经济统计调查，也有其他部门或机构为特定目的而进行的调查；科学试验则是取得自然科学数据的主要手段。</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间接来源</a:t>
            </a:r>
            <a:r>
              <a:rPr b="0" lang="zh-CN" sz="2000" spc="-1" strike="noStrike">
                <a:solidFill>
                  <a:srgbClr val="000000"/>
                </a:solidFill>
                <a:latin typeface="楷体_GB2312"/>
                <a:ea typeface="楷体_GB2312"/>
              </a:rPr>
              <a:t>：对于很多数据搜集和使用者来说，如果由于人、财、物所限或被调查对象太多而无法直接搜集第一手资料，还可以通过其他渠道获取别人调查或科学试验的第二手数据。第二手数据主要是那些公开出版或公开报道的数据，如国家统计局出版的《中国统计年鉴》、《中国城市统计年鉴》、《中国人口统计年鉴》、各地区的统计年鉴，以及《中国卫生统计》及《新财富》等杂志上的公开统计数据。</a:t>
            </a:r>
            <a:endParaRPr b="0" lang="en-US" sz="2000" spc="-1" strike="noStrike">
              <a:solidFill>
                <a:srgbClr val="000000"/>
              </a:solidFill>
              <a:latin typeface="Times New Roman"/>
            </a:endParaRPr>
          </a:p>
        </p:txBody>
      </p:sp>
      <p:sp>
        <p:nvSpPr>
          <p:cNvPr id="6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864743C-E1CA-4646-9648-D1706E88BD5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211" name="Text Box 11"/>
          <p:cNvSpPr/>
          <p:nvPr/>
        </p:nvSpPr>
        <p:spPr>
          <a:xfrm>
            <a:off x="357120" y="1946160"/>
            <a:ext cx="842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统计数据搜集的基本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统计数据的来源与误差。统计数据的来源包括直接来源和间接来源。统计数据的直接来源主要有两个渠道：专门调查和科学试验。间接来源是指通过其他渠道获取别人调查或科学试验的第二手数据，第二手数据主要是指那些公开出版或公开报道的数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的误差通常是指统计数据与客观现实之间的差距，误差的产生原因往往是由于在统计调查中调查人员的选择偏见、被调查者的概念模糊、有意隐瞒或抽样的随机性等。误差主要包括六种：覆盖误差，无回馈误差，道德误差，被调查者误差，抽样误差，测量误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调查方案设计。调查方案应包括以下内容：确定调查目的；确定调查对象和调查单位；确定调查项目，设计调查表；确定调查时间；调查的组织实施。</a:t>
            </a:r>
            <a:endParaRPr b="0" lang="en-US" sz="2000" spc="-1" strike="noStrike">
              <a:solidFill>
                <a:srgbClr val="000000"/>
              </a:solidFill>
              <a:latin typeface="Times New Roman"/>
            </a:endParaRPr>
          </a:p>
        </p:txBody>
      </p:sp>
      <p:sp>
        <p:nvSpPr>
          <p:cNvPr id="21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23DC941-F053-43E4-B30D-A99F24468AB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215" name="Text Box 11"/>
          <p:cNvSpPr/>
          <p:nvPr/>
        </p:nvSpPr>
        <p:spPr>
          <a:xfrm>
            <a:off x="357120" y="1946160"/>
            <a:ext cx="8425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调查问卷设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问卷是研究者用统一严格设计的问卷，通过书面语言与被调查者进行交流，来搜集研究对象关于某种问题或某种现象的信息和资料的方法。它的优点包括：标准化程度高，匿名性强，效率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问卷的基本结构。问卷一般由开头部分、甄别部分、主体部分和背景部分等组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开头部分包括问卷标题、问候语、填写说明等内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甄别也称为过滤，它是先对被调查者进行过滤，筛选掉不需要的部分，然后针对特定的被调查者进行调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主体部分是问卷的核心，包括所要调查的全部问题。在封闭式问卷中，问题后必须以不同的形式附上答案；而开放式问卷中，问题后不提供待选择的答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背景部分通常在在问卷的最后，主要是有关被调查者的一些背景资料。该部分所包含的各项问题，可使研究者根据背景资料对被调查者进行分类比较分析。</a:t>
            </a:r>
            <a:endParaRPr b="0" lang="en-US" sz="2000" spc="-1" strike="noStrike">
              <a:solidFill>
                <a:srgbClr val="000000"/>
              </a:solidFill>
              <a:latin typeface="Times New Roman"/>
            </a:endParaRPr>
          </a:p>
        </p:txBody>
      </p:sp>
      <p:sp>
        <p:nvSpPr>
          <p:cNvPr id="21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0A31A0B-D305-42E4-9F01-3D5574BCF4A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219" name="Text Box 11"/>
          <p:cNvSpPr/>
          <p:nvPr/>
        </p:nvSpPr>
        <p:spPr>
          <a:xfrm>
            <a:off x="357120" y="1946160"/>
            <a:ext cx="842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调查问卷设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问卷的设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提问项目的设计要求包括：语句简洁、通俗易懂；问题的内容具体、清晰、含义单一；问题设计者应立场中立，客观谨慎，避免“暗示效应”；妥善处理与社会规范一致或冲突的问题，避免“社会认可效应”。</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回答项目的设计，一般有两种情况：一种是设计者只提出问题，不提供被选择的答案，而由被调查者自己任意回答，即开放式问题。由于开放式问题不需要列出答案，所以形式很简单，在设计时，只需在问题下面留出一块空白即可。另一种是提出问题后，提供被选择的答案，即封闭式问题。常见封闭式问题答案设计的基本格式包括是否式、单项选择式、多项选择式、顺序选择式、评定尺度式、双向列联式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7A3682C-8E42-4943-8BF3-E50E66FA201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本章小结</a:t>
            </a:r>
            <a:endParaRPr b="0" lang="en-US" sz="2400" spc="-1" strike="noStrike">
              <a:solidFill>
                <a:srgbClr val="000000"/>
              </a:solidFill>
              <a:latin typeface="Times New Roman"/>
            </a:endParaRPr>
          </a:p>
        </p:txBody>
      </p:sp>
      <p:sp>
        <p:nvSpPr>
          <p:cNvPr id="223" name="Text Box 11"/>
          <p:cNvSpPr/>
          <p:nvPr/>
        </p:nvSpPr>
        <p:spPr>
          <a:xfrm>
            <a:off x="357120" y="1946160"/>
            <a:ext cx="842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统计调查体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我国的统计实践中，经常采用的调查方式有普查、统计报表制度、抽样调查、重点调查和典型调查。无论采取何种方式进行调查，在取得统计数据时，我们还需要将一些具体的统计调查方法运用到各种形式的统计调查中，以便搜集数据。统计调查方法归纳起来可分为询问调查法和观察实验法两大类。其中询问调查法包括访问、邮寄、电话、座谈会等方法；观察实验法包括观察调查法和实验调查法两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F2C776A-744E-4BCF-BC39-37173539966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67" name="Text Box 11"/>
          <p:cNvSpPr/>
          <p:nvPr/>
        </p:nvSpPr>
        <p:spPr>
          <a:xfrm>
            <a:off x="395280" y="1946160"/>
            <a:ext cx="842472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3 </a:t>
            </a:r>
            <a:r>
              <a:rPr b="0" lang="zh-CN" sz="2400" spc="-1" strike="noStrike">
                <a:solidFill>
                  <a:srgbClr val="000000"/>
                </a:solidFill>
                <a:latin typeface="楷体_GB2312"/>
                <a:ea typeface="楷体_GB2312"/>
              </a:rPr>
              <a:t>统计数据的来源与误差</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统计数据的误差</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统计数据的误差通常是指统计数据与客观现实之间的差距，误差的产生原因往往是由于在统计调查中调查人员的选择偏见、被调查者的概念模糊、有意隐瞒或抽样的随机性等。具体来讲，可能产生的误差有</a:t>
            </a:r>
            <a:r>
              <a:rPr b="0"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覆盖误差，无回馈误差，道德误差，被调查者误差，抽样误差，测量误差</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以上六种误差中，抽样误差是只有在概率抽样中才会涉及的问题，抽样误差随样本量的增大而减小，且可以计量并且能通过抽样方式和样本量加以控制；其余五种数据误差则与抽样的随机性误差无关，也叫非抽样误差。</a:t>
            </a:r>
            <a:endParaRPr b="0" lang="en-US" sz="2000" spc="-1" strike="noStrike">
              <a:solidFill>
                <a:srgbClr val="000000"/>
              </a:solidFill>
              <a:latin typeface="Times New Roman"/>
            </a:endParaRPr>
          </a:p>
        </p:txBody>
      </p:sp>
      <p:sp>
        <p:nvSpPr>
          <p:cNvPr id="6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5D7870A-C41F-47A3-9AB3-CC7152C1758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71" name="Text Box 11"/>
          <p:cNvSpPr/>
          <p:nvPr/>
        </p:nvSpPr>
        <p:spPr>
          <a:xfrm>
            <a:off x="395280" y="1946160"/>
            <a:ext cx="8424720" cy="218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4 </a:t>
            </a:r>
            <a:r>
              <a:rPr b="0" lang="zh-CN" sz="2400" spc="-1" strike="noStrike">
                <a:solidFill>
                  <a:srgbClr val="000000"/>
                </a:solidFill>
                <a:latin typeface="楷体_GB2312"/>
                <a:ea typeface="楷体_GB2312"/>
              </a:rPr>
              <a:t>调查方案设计</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了保证统计调查的资料准确、及时、全面，必须在调查开始之前做好各项准备，设计一个切实可行的统计调查方案，调查方案应包括以下内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确定调查目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确定调查目的就是要明确统计调查要研究和解决什么问题。如果调查目的不明确，就会产生向谁调查、调查什么以及采用什么方式调查的一系列问题以致无法开展工作。因此，调查目的的确定是调查方案设计中最重要的问题。调查目的应当具体，但又不要面面俱到，要重点突出。例如，</a:t>
            </a:r>
            <a:r>
              <a:rPr b="0" lang="en-US" sz="2000" spc="-1" strike="noStrike">
                <a:solidFill>
                  <a:srgbClr val="000000"/>
                </a:solidFill>
                <a:latin typeface="楷体_GB2312"/>
                <a:ea typeface="楷体_GB2312"/>
              </a:rPr>
              <a:t>2010</a:t>
            </a:r>
            <a:r>
              <a:rPr b="0" lang="zh-CN" sz="2000" spc="-1" strike="noStrike">
                <a:solidFill>
                  <a:srgbClr val="000000"/>
                </a:solidFill>
                <a:latin typeface="楷体_GB2312"/>
                <a:ea typeface="楷体_GB2312"/>
              </a:rPr>
              <a:t>年第六次全国人口普查的目的是：组织开展第六次全国人口普查，将查我国人口在数量、结构、分布和居住环境等方面的变化情况，为科学制定国民经济和社会发展规划，统筹安排人民的物质和文化生活，实现可持续发展战略，构建社会主义和谐社会，提供科学准确的统计信息支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8256AAE-1FE2-484F-A1E8-485526EFB7F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75" name="Text Box 11"/>
          <p:cNvSpPr/>
          <p:nvPr/>
        </p:nvSpPr>
        <p:spPr>
          <a:xfrm>
            <a:off x="39528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4 </a:t>
            </a:r>
            <a:r>
              <a:rPr b="0" lang="zh-CN" sz="2400" spc="-1" strike="noStrike">
                <a:solidFill>
                  <a:srgbClr val="000000"/>
                </a:solidFill>
                <a:latin typeface="楷体_GB2312"/>
                <a:ea typeface="楷体_GB2312"/>
              </a:rPr>
              <a:t>调查方案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确定调查对象和调查单位</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对象是根据研究目的确定的研究总体，也称调查总体。确定了调查对象，就可以明确总体界限，避免因界限不清而影响调查资料的准确性。例如，第六次全国人口普查的对象确定为在中华人民共和国境内的自然人以及在中华人民共和国境外但未定居的中国公民，不包括在中华人民共和国境内短期停留的港澳台居民和外籍人员。</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单位是构成调查对象的每一个单位，也就是总体单位。调查单位是具体调查项目和内容的承担者，确定了调查单位，就相当于明确了应向谁搜集资料。如，人口普查的调查单位是每一个人。</a:t>
            </a:r>
            <a:endParaRPr b="0" lang="en-US" sz="2000" spc="-1" strike="noStrike">
              <a:solidFill>
                <a:srgbClr val="000000"/>
              </a:solidFill>
              <a:latin typeface="Times New Roman"/>
            </a:endParaRPr>
          </a:p>
        </p:txBody>
      </p:sp>
      <p:sp>
        <p:nvSpPr>
          <p:cNvPr id="7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AE6EC02-73B9-44D9-A66F-D6CFFE04A56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79" name="Text Box 11"/>
          <p:cNvSpPr/>
          <p:nvPr/>
        </p:nvSpPr>
        <p:spPr>
          <a:xfrm>
            <a:off x="395280" y="1946160"/>
            <a:ext cx="842472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4 </a:t>
            </a:r>
            <a:r>
              <a:rPr b="0" lang="zh-CN" sz="2400" spc="-1" strike="noStrike">
                <a:solidFill>
                  <a:srgbClr val="000000"/>
                </a:solidFill>
                <a:latin typeface="楷体_GB2312"/>
                <a:ea typeface="楷体_GB2312"/>
              </a:rPr>
              <a:t>调查方案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确定调查项目，设计调查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调查项目就是调查的具体内容，也就是调查中所要登记的调查单位的标志。反映调查单位特征的标志很多，有数量标志和品质标志之分。如，人口普查中每个人的年龄是数量标志，每个人的性别、民族等是品质标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项目通常用表的形式表现出来，这就是调查表。调查表有两种形式：单一表和一览表。单一表是只能登记一个调查单位的调查资料的表格。单一表的优点是可以容纳较多的标志，在汇总时可以按被研究标志进行各种分组，对调查对象进行更深入的分析研究。一览表是在一张表上可以登记许多调查单位的调查资料的表格。一览表的优点是在同一张表上可以登记若干调查单位，每个单位的共同事项，只需登记一次，节省人力和时间，并可把一览表中各有关单位的资料互相核对，以检查填报资料的正确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A26B4A7-CCAE-4824-916D-88556C9CFC2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 </a:t>
            </a:r>
            <a:r>
              <a:rPr b="0" lang="zh-CN" sz="2400" spc="-1" strike="noStrike">
                <a:solidFill>
                  <a:srgbClr val="000000"/>
                </a:solidFill>
                <a:latin typeface="楷体_GB2312"/>
                <a:ea typeface="楷体_GB2312"/>
              </a:rPr>
              <a:t>统计数据搜集的基本问题</a:t>
            </a:r>
            <a:endParaRPr b="0" lang="en-US" sz="2400" spc="-1" strike="noStrike">
              <a:solidFill>
                <a:srgbClr val="000000"/>
              </a:solidFill>
              <a:latin typeface="Times New Roman"/>
            </a:endParaRPr>
          </a:p>
        </p:txBody>
      </p:sp>
      <p:sp>
        <p:nvSpPr>
          <p:cNvPr id="83" name="Text Box 11"/>
          <p:cNvSpPr/>
          <p:nvPr/>
        </p:nvSpPr>
        <p:spPr>
          <a:xfrm>
            <a:off x="395280" y="1946160"/>
            <a:ext cx="842472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1.4 </a:t>
            </a:r>
            <a:r>
              <a:rPr b="0" lang="zh-CN" sz="2400" spc="-1" strike="noStrike">
                <a:solidFill>
                  <a:srgbClr val="000000"/>
                </a:solidFill>
                <a:latin typeface="楷体_GB2312"/>
                <a:ea typeface="楷体_GB2312"/>
              </a:rPr>
              <a:t>调查方案设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确定调查时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调查时间包括调查资料所属时间和调查期限，即调查工作起止时间。如果所要调查的资料是时期资料就要明确其所属时期，如果是时点资料，就要明确其所属时点，也叫标准时点。如，</a:t>
            </a:r>
            <a:r>
              <a:rPr b="0" lang="en-US" sz="2000" spc="-1" strike="noStrike">
                <a:solidFill>
                  <a:srgbClr val="000000"/>
                </a:solidFill>
                <a:latin typeface="楷体_GB2312"/>
                <a:ea typeface="楷体_GB2312"/>
              </a:rPr>
              <a:t>2008</a:t>
            </a:r>
            <a:r>
              <a:rPr b="0" lang="zh-CN" sz="2000" spc="-1" strike="noStrike">
                <a:solidFill>
                  <a:srgbClr val="000000"/>
                </a:solidFill>
                <a:latin typeface="楷体_GB2312"/>
                <a:ea typeface="楷体_GB2312"/>
              </a:rPr>
              <a:t>年第二次全国经济普查中有很多项目，其中既有时期现象，又有时点对象，如果是时期现象，其资料所属时间就是</a:t>
            </a:r>
            <a:r>
              <a:rPr b="0" lang="en-US" sz="2000" spc="-1" strike="noStrike">
                <a:solidFill>
                  <a:srgbClr val="000000"/>
                </a:solidFill>
                <a:latin typeface="楷体_GB2312"/>
                <a:ea typeface="楷体_GB2312"/>
              </a:rPr>
              <a:t>2008</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月</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日至</a:t>
            </a:r>
            <a:r>
              <a:rPr b="0" lang="en-US" sz="2000" spc="-1" strike="noStrike">
                <a:solidFill>
                  <a:srgbClr val="000000"/>
                </a:solidFill>
                <a:latin typeface="楷体_GB2312"/>
                <a:ea typeface="楷体_GB2312"/>
              </a:rPr>
              <a:t>2008</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月</a:t>
            </a:r>
            <a:r>
              <a:rPr b="0" lang="en-US" sz="2000" spc="-1" strike="noStrike">
                <a:solidFill>
                  <a:srgbClr val="000000"/>
                </a:solidFill>
                <a:latin typeface="楷体_GB2312"/>
                <a:ea typeface="楷体_GB2312"/>
              </a:rPr>
              <a:t>31</a:t>
            </a:r>
            <a:r>
              <a:rPr b="0" lang="zh-CN" sz="2000" spc="-1" strike="noStrike">
                <a:solidFill>
                  <a:srgbClr val="000000"/>
                </a:solidFill>
                <a:latin typeface="楷体_GB2312"/>
                <a:ea typeface="楷体_GB2312"/>
              </a:rPr>
              <a:t>日；如果是时点现象，其资料所属时间就是</a:t>
            </a:r>
            <a:r>
              <a:rPr b="0" lang="en-US" sz="2000" spc="-1" strike="noStrike">
                <a:solidFill>
                  <a:srgbClr val="000000"/>
                </a:solidFill>
                <a:latin typeface="楷体_GB2312"/>
                <a:ea typeface="楷体_GB2312"/>
              </a:rPr>
              <a:t>2008</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月</a:t>
            </a:r>
            <a:r>
              <a:rPr b="0" lang="en-US" sz="2000" spc="-1" strike="noStrike">
                <a:solidFill>
                  <a:srgbClr val="000000"/>
                </a:solidFill>
                <a:latin typeface="楷体_GB2312"/>
                <a:ea typeface="楷体_GB2312"/>
              </a:rPr>
              <a:t>31</a:t>
            </a:r>
            <a:r>
              <a:rPr b="0" lang="zh-CN" sz="2000" spc="-1" strike="noStrike">
                <a:solidFill>
                  <a:srgbClr val="000000"/>
                </a:solidFill>
                <a:latin typeface="楷体_GB2312"/>
                <a:ea typeface="楷体_GB2312"/>
              </a:rPr>
              <a:t>日。再如，</a:t>
            </a:r>
            <a:r>
              <a:rPr b="0" lang="en-US" sz="2000" spc="-1" strike="noStrike">
                <a:solidFill>
                  <a:srgbClr val="000000"/>
                </a:solidFill>
                <a:latin typeface="楷体_GB2312"/>
                <a:ea typeface="楷体_GB2312"/>
              </a:rPr>
              <a:t>2010</a:t>
            </a:r>
            <a:r>
              <a:rPr b="0" lang="zh-CN" sz="2000" spc="-1" strike="noStrike">
                <a:solidFill>
                  <a:srgbClr val="000000"/>
                </a:solidFill>
                <a:latin typeface="楷体_GB2312"/>
                <a:ea typeface="楷体_GB2312"/>
              </a:rPr>
              <a:t>年第六次全国人口普查，调查项目多是时点现象，其资料所属时间即标准时点是</a:t>
            </a:r>
            <a:r>
              <a:rPr b="0" lang="en-US" sz="2000" spc="-1" strike="noStrike">
                <a:solidFill>
                  <a:srgbClr val="000000"/>
                </a:solidFill>
                <a:latin typeface="楷体_GB2312"/>
                <a:ea typeface="楷体_GB2312"/>
              </a:rPr>
              <a:t>2010</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ea typeface="楷体_GB2312"/>
              </a:rPr>
              <a:t>11</a:t>
            </a:r>
            <a:r>
              <a:rPr b="0" lang="zh-CN" sz="2000" spc="-1" strike="noStrike">
                <a:solidFill>
                  <a:srgbClr val="000000"/>
                </a:solidFill>
                <a:latin typeface="楷体_GB2312"/>
                <a:ea typeface="楷体_GB2312"/>
              </a:rPr>
              <a:t>月</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日</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llection of Statistical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0T21:53:29Z</dcterms:modified>
  <cp:revision>217</cp:revision>
  <dc:subject/>
  <dc:title>幻灯片 1</dc:title>
</cp:coreProperties>
</file>